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070000" y="723600"/>
            <a:ext cx="2718000" cy="36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257-92E2-462D-BB36-53BE67BA23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31E-7EDF-47E1-99DF-F37AA705F5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81F9-EB44-4877-9823-A99203268F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E1C0-42A7-45D6-9DFF-D14B5D034F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2440-9FFF-4397-8019-694D1425A0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7AA-FA4B-430E-A27B-3F637784E3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CB03-D7F7-4362-9CDD-08CE76DE68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吃饭了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먹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上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去上海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상하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h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去过北京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 적이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四川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吃过四川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천 요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ìchuān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味道怎么样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ida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약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不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189000" y="5191560"/>
            <a:ext cx="62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很好吃，但是有点儿辣。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n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好吃吗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ǎo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我们吃四川菜吧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们要点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주문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diǎn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吃饭吧！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밥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麻婆豆腐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我喜欢麻婆豆腐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파두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음식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pó dòu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有点儿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四川菜不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달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苦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个菜太咸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北京烤鸭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吃过北京烤鸭吗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베이징덕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643140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 kǎoy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来一个炸酱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장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ájiàngm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糖醋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糖醋肉有点儿甜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탕수육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ángcùrò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泡菜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泡菜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김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ào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拿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1454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的拿手菜是什么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신 있다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뛰어나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sh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还没吃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아직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전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我喜欢炒饭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볶음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ǎo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吃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않아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吃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고 싶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我请客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45768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초청하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한턱내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k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真的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정말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中国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12680"/>
            <a:ext cx="626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000000"/>
                </a:solidFill>
                <a:latin typeface="굴림"/>
              </a:rPr>
              <a:t>중국요리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Zhōngguó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放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们还没放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방학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gj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0:06Z</dcterms:modified>
  <cp:revision>276</cp:revision>
  <dc:subject/>
  <dc:title>슬라이드 1</dc:title>
</cp:coreProperties>
</file>